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2.png" ContentType="image/png"/>
  <Override PartName="/ppt/media/image1.jpeg" ContentType="image/jpeg"/>
  <Override PartName="/ppt/media/image4.wmf" ContentType="image/x-wmf"/>
  <Override PartName="/ppt/media/image10.png" ContentType="image/png"/>
  <Override PartName="/ppt/media/image2.jpeg" ContentType="image/jpeg"/>
  <Override PartName="/ppt/media/image3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dt" idx="37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ftr" idx="38"/>
          </p:nvPr>
        </p:nvSpPr>
        <p:spPr>
          <a:xfrm>
            <a:off x="-36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 type="sldNum" idx="39"/>
          </p:nvPr>
        </p:nvSpPr>
        <p:spPr>
          <a:xfrm>
            <a:off x="396504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0A0BC71-EBB4-4C37-96F0-043703CFC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96540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lide Number Placeholder 3"/>
          <p:cNvSpPr/>
          <p:nvPr/>
        </p:nvSpPr>
        <p:spPr>
          <a:xfrm>
            <a:off x="396540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1E3093F-9608-4C1A-9410-954F2BB85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96540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F88BB3C-C495-4258-A4C2-091D86B1A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A2E6-9564-4EE7-BAD5-66E9953C8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F1B3-6273-48C7-94D1-9AC7D7E61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4B4181-DE0D-4606-BBFA-B0C38FAD9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E1DCAC-44A6-4C0D-BC5D-3D0DBDA0F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F7C706-2032-4EAE-B16C-A14CDB145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A3A1B7-02A1-4CF4-8BB9-ECE8BB76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5DA2C1-6B07-4992-B1ED-1B90CE6B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74526F-A4A0-4350-95AE-3A8748AF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D0B587-7545-4675-8212-F3016118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90AEA0-1518-4233-831B-C3D178E49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55010A-7529-4F18-9C81-D583C42E9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6A51DC-7BAB-4E88-9263-8BDDF43E9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D3B2-1733-47A4-BAB4-98B93ABB2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D9B06F-AF65-416F-B264-AA79A7148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EFA307-4B66-4DCA-975F-C583C689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6751D4-C379-49AB-97B5-34629F00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EDE892-3865-4D16-A115-8CC241737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DA3E4A-57FF-42CE-983E-E94216AFB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70AB79-5451-406A-A0A4-46B11B65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AF2FF9-78DE-4ED7-8454-30B21A0E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08DA26-64A6-4E6E-BA02-ABDE8778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D7E791-C4C9-4208-A98D-6AB1C9FF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48E172-823B-4C05-9591-784B347B5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22EF-270E-4A57-A33A-3C4D88C07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B0865A-DD47-4AA3-912F-42177636B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C51D3A-D7D1-4FBC-B86C-4642E8E98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6A1716-53DB-4511-AB15-ADE0727B4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868320-0DFE-4A36-B6B0-ED78FA303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CBDFCC-BCDB-4892-A83E-A8782F573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4ABDA3-0148-4A73-8CC5-7E93C3658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E54D5F-839F-4F9F-B9E9-808D46CA0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1EDBCA-EAC3-4300-A904-29BA061D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042B17-0183-446F-A0FA-3C39DC2A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342442-018A-4179-87D6-3A8D4101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41734-8630-4BB2-83CE-C72458CF6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C72C67-05CC-49DD-BD76-274018C56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053226-A360-4EB0-8DBD-6987CAB5B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F61EAC-374E-46B5-956F-E48C6BC83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5E884D-F71C-4181-8248-576041B94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B3C359-92D9-4EE4-AB4D-42DC7FC45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78F3AF-3005-41F6-B9DD-BDD9D6EB4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524422-6F62-4B07-AC08-F03C93A0D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CBEAFA-0FE4-4BE4-8E16-C239BB8BD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53381B-017D-49CC-B938-3E6607870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210382-53CE-44CB-96A7-EB44C5A4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3DA0F-2882-4260-AFF3-280BC2B07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6EAF6E-6195-47F2-96D5-55115093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65C098-1629-442A-8944-E8B2A410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7AE06E-3A47-46BB-99CC-7DDF0DF3D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9626AD-8026-4945-BF4A-195D13619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395036-9701-4ED4-AF44-74163A3E1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FDAE2-67A3-4B25-AC67-548F7AC07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B2E6D-1FD1-4FFC-8DE4-A27FA3409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7896D-13C0-40EA-8AE8-E89B42A01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4FA34-B264-4226-B09A-CB901D5C3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C0652-32F3-4979-8254-28EC4DC9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70A0-CF2F-446D-9AE6-3EF5401CD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6169C-A343-4B01-8AC6-67B28C5A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45BF7-DE3D-4457-81DA-4084E934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3EF5F-0AF3-4B48-B48C-E1E99C692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1F90D-3C06-4BE0-90E5-AC30F47C9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6DBD3-C928-4424-979E-F8C2343C3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5D0C4-62A5-4DC8-8A34-13A859603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D421B-F640-4FD3-849E-75C558885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25BE0-FB62-48C9-BF16-018640308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C50E3-CD03-4947-BAC0-3E4007BA0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59F17-E917-4410-B53A-1512CD474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7EC4-E88C-4E1F-8E70-AE70C3A04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14E37-1B74-41C8-88D8-27678D532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C967F-3950-4E58-AF14-D134CC20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011BC-B978-4C79-A6C0-D14981CD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D71E6-02F3-4671-909F-9CB58555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B97AB-F325-4AAD-BE12-71CAFAE2D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E7E13-4AA7-4CC2-91B1-D423A999B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D4878-BFEB-4585-879C-B0E2884C1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491BA-5501-45A0-BCAF-3E90D6FA9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953D4-E9E4-4E94-BDA3-4EDAB039C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6DB2A-A4FA-4595-B1DA-BBC0EBF53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16C9-B806-4B09-94B9-A830D27C3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45200-1393-454B-B015-802FCA82D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A3FC3-486F-4CBC-A05F-37A1D5733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3EBCF-3D42-4F3F-82B3-02C966A5A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13855-3854-4D03-9AC3-12D024CC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C953E-F08C-42D7-9160-20FECF63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96327-272C-4F52-88D3-95544113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7267B-C531-43C3-8D40-FA6BA46BC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39ECD-67D9-4BBD-BE9D-E79F8C719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6FAB2-AD1D-4B2A-A85C-EA1D3BAFF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D3481-E80C-4423-8588-E29B217F4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BB3C-1E49-45C2-921C-34E734ABF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C653D-3F82-4B19-AFEC-5FFDD67C3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D8AC5-2C5E-49C4-8A71-EF995C05C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6A4FE-E0C8-4477-9DE0-590C78E90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F0201-EBBE-4CE3-8482-0780F9353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72D88-1B4B-417C-A82C-F4B3B9E0E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04C1B9-BF9F-49D9-8A88-BF56B0EF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F1F0D-C285-491E-8C2F-D842441F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BA553-6F50-447A-95F6-C3D1FEFF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4F808-DDD7-434F-92AD-622A08E38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03996-86C9-4586-953E-2ECBBD603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2946-CE30-4CAB-B070-035EBE5F3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B43D5-35DF-4E65-B345-FC41FB6B9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1D0E7D-63E7-4165-855E-429796280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C1712-34D3-465A-B184-9E59C2558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F4F44B-40CF-4E59-868A-4C98C682A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CF5AB-25C5-4C78-89C6-A1729B9C5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37DB7-65A7-40BE-9DB3-50E11F3D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B6DCC-D776-48B7-9D5E-8317B6572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AF219-2739-4FE3-BBAF-A57E564C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AC4C11-64E2-47DA-8B9F-FF6E4D21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827207-DEE7-40EB-8A24-77C0586B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FC75-83DF-4F1B-84F3-1CC78016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F9651A-043A-4747-92D8-DDA935108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1C969-E236-4ECC-82DE-0310B6B8D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65330-A111-4FAE-B49D-25D16E7CA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C0297-F45B-4523-837E-11C8A8498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BA9284-3E20-45C0-A589-083AC9D22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6E26F-C5C5-47E3-8685-635A1CC6A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EC99F-5D86-4297-9D24-371BB83BC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8F837-296C-42B4-B989-2C27AA80E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EDA51C-4778-4401-8A80-EF51D7857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D4DD9-D1AB-4E22-94F2-CC4BC529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25AC-1193-4ACB-BBC7-52821D20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F2240-DC43-4EAC-B4A7-F2C3798D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8E629A-D149-4372-83F5-9E203C39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FE3F2-D8B4-4872-861B-CFF5C715A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F54F8-3B29-43C4-880B-78A85BBAA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D5926B-2B1D-472F-BEC8-52D227808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3C3995-E7E9-4988-8816-FDE7911E7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9F4DC0-E325-48BD-866E-8A111A473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97D9F5-DFF6-4EB4-85F6-8033EF217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E8E291-6C1D-4711-B075-360C691F0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7144F0-9047-4A24-86FA-88C15AB5D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BD31-52AA-4E9A-88DD-8D127246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AAC61D-BBD8-4870-9412-DD1D9A3B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3613E8-B46B-4120-A90E-4334058F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BFDD5E-BC43-472C-93B0-F785E01A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695565-44DB-4435-95D4-21A22C04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6A1E9B-5E4C-436B-9A50-79C748EA6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B7C91D-65FB-4C0F-8064-B22547082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B38A55-83FF-4338-A9F6-6FD22B812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334912-B6EA-418F-BB5C-703ACE091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95B0A4-8987-45CA-B440-0E613F30D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B8EE1F-818E-46A5-8D6C-334F0EF5F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9C1F0-E5B9-4CF2-9B75-066593EDE2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0295B-7F8F-4999-8878-6443A4AFD6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07D63-14EB-4D73-91A3-EC3D5A130F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7E04A-3958-4915-BFF3-39C6F78869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5343480"/>
            <a:ext cx="9144000" cy="1514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2012 PowerPoint title banner_v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2" descr="EPRI logo_RGB_4"/>
          <p:cNvPicPr/>
          <p:nvPr/>
        </p:nvPicPr>
        <p:blipFill>
          <a:blip r:embed="rId3"/>
          <a:stretch/>
        </p:blipFill>
        <p:spPr>
          <a:xfrm>
            <a:off x="2998800" y="1630440"/>
            <a:ext cx="3146400" cy="511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D2267-AA21-41F5-B346-8ADE09A237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DBC26-7A95-4129-BF3B-F4F3732BDE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739E-A934-4340-9E77-BD6065E9C0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DD840-620E-4B72-B74F-CFAB03FFF8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C32BD-86C7-4CB2-93A4-A635443467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2D063-D518-4D37-8EB3-0BB028DD19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1C2E1-A99A-4368-AABA-D8D463C1D5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6F67D-9548-40DC-BA8D-13485037E6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hio River Basi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ater Quality Trading Project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3" name="Rectangle 3" descr=""/>
          <p:cNvPicPr/>
          <p:nvPr/>
        </p:nvPicPr>
        <p:blipFill>
          <a:blip r:embed="rId1"/>
          <a:stretch/>
        </p:blipFill>
        <p:spPr>
          <a:xfrm>
            <a:off x="360360" y="4645080"/>
            <a:ext cx="842328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2" name=""/>
          <p:cNvGraphicFramePr/>
          <p:nvPr/>
        </p:nvGraphicFramePr>
        <p:xfrm>
          <a:off x="163440" y="1552680"/>
          <a:ext cx="8980560" cy="3560760"/>
        </p:xfrm>
        <a:graphic>
          <a:graphicData uri="http://schemas.openxmlformats.org/drawingml/2006/table">
            <a:tbl>
              <a:tblPr/>
              <a:tblGrid>
                <a:gridCol w="496800"/>
                <a:gridCol w="708120"/>
                <a:gridCol w="1616040"/>
                <a:gridCol w="708120"/>
                <a:gridCol w="708120"/>
                <a:gridCol w="707760"/>
                <a:gridCol w="708120"/>
                <a:gridCol w="708120"/>
                <a:gridCol w="706320"/>
                <a:gridCol w="708120"/>
                <a:gridCol w="708120"/>
                <a:gridCol w="496800"/>
              </a:tblGrid>
              <a:tr h="25200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5400" rIns="5400" tIns="54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 Quality Trades Summar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32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MP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imated Total Project Cos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rmer Cost Shar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RI Cost Shar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RI Cost Share 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N Credits      (5 years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P Credits                  (5 years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N + TP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es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20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ple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y conversion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   1,400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      350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   1,050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progres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20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ple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y conversion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   1,000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      250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      750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progres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20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ple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AP (Heavy use area protection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 43,514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 33,514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 10,000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4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5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progres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316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ple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AP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 18,051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   9,051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   9,000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allled but not verifie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316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arborn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AP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 13,710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   3,710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 10,000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7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2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allled but not verifie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316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hio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AP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   6,548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   1,637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   4,911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4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6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allled but not verifie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20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hio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AP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 11,284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   2,821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   8,463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1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1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progres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316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hio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AP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 11,152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   2,788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   8,364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4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9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allled but not verifie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316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yn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ver Crop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 21,420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 11,420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 10,000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5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2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8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allled but not verifie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316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yn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ver Crop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 16,000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   6,000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 10,000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4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2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6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allled but not verifie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20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zerlan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ver Crop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 18,375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   8,375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 10,000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progres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20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162,454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 79,916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 82,538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,170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860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030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20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20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H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honin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edlot Runoff Control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 18,924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   8,924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 10,000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74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in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20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H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honin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edlot Runoff Control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 32,680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 22,680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 10,000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5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4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in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20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H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umbian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khouse Waste System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 14,000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   4,000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 10,000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3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6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79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in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20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H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umbian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khouse Waste System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 14,000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   4,000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 10,000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5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6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in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20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 79,604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 39,604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 40,000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140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360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500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20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20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200">
                <a:tc gridSpan="3"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Y 5-7 applications in next 2 week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3" name="TextBox 7"/>
          <p:cNvSpPr/>
          <p:nvPr/>
        </p:nvSpPr>
        <p:spPr>
          <a:xfrm>
            <a:off x="297360" y="5881680"/>
            <a:ext cx="371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 per pound reduction:  $1.32-$4.6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avy Use Area Protection (HUAP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5" name="Picture 2" descr=""/>
          <p:cNvPicPr/>
          <p:nvPr/>
        </p:nvPicPr>
        <p:blipFill>
          <a:blip r:embed="rId1"/>
          <a:stretch/>
        </p:blipFill>
        <p:spPr>
          <a:xfrm>
            <a:off x="0" y="1176480"/>
            <a:ext cx="5261040" cy="385272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3" descr=""/>
          <p:cNvPicPr/>
          <p:nvPr/>
        </p:nvPicPr>
        <p:blipFill>
          <a:blip r:embed="rId2"/>
          <a:stretch/>
        </p:blipFill>
        <p:spPr>
          <a:xfrm>
            <a:off x="4179960" y="2793960"/>
            <a:ext cx="4964040" cy="3629160"/>
          </a:xfrm>
          <a:prstGeom prst="rect">
            <a:avLst/>
          </a:prstGeom>
          <a:ln w="0">
            <a:noFill/>
          </a:ln>
        </p:spPr>
      </p:pic>
      <p:sp>
        <p:nvSpPr>
          <p:cNvPr id="537" name="TextBox 5"/>
          <p:cNvSpPr/>
          <p:nvPr/>
        </p:nvSpPr>
        <p:spPr>
          <a:xfrm>
            <a:off x="5616720" y="1189080"/>
            <a:ext cx="31352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Bef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off, erosion, sedimen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ight Arrow 6"/>
          <p:cNvSpPr/>
          <p:nvPr/>
        </p:nvSpPr>
        <p:spPr>
          <a:xfrm flipH="1">
            <a:off x="5956200" y="1279440"/>
            <a:ext cx="549360" cy="2746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Box 7"/>
          <p:cNvSpPr/>
          <p:nvPr/>
        </p:nvSpPr>
        <p:spPr>
          <a:xfrm>
            <a:off x="326880" y="5194440"/>
            <a:ext cx="35751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erosion, no sedimentation, easier manure management, proud farm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ight Arrow 8"/>
          <p:cNvSpPr/>
          <p:nvPr/>
        </p:nvSpPr>
        <p:spPr>
          <a:xfrm>
            <a:off x="2817720" y="5234040"/>
            <a:ext cx="722520" cy="344520"/>
          </a:xfrm>
          <a:prstGeom prst="rightArrow">
            <a:avLst>
              <a:gd name="adj1" fmla="val 50000"/>
              <a:gd name="adj2" fmla="val 49905"/>
            </a:avLst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Docu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298080" y="1190160"/>
            <a:ext cx="437508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redit Cre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fidavit of Eligi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rmer Contra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WCD Installation Certif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MP Verification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dit Certification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Content Placeholder 2"/>
          <p:cNvSpPr/>
          <p:nvPr/>
        </p:nvSpPr>
        <p:spPr>
          <a:xfrm>
            <a:off x="5146560" y="1131840"/>
            <a:ext cx="399744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3160" indent="-1731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Credit Trans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edit Release L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edit Suspension No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edit Cancellation no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yer Con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2" descr=""/>
          <p:cNvPicPr/>
          <p:nvPr/>
        </p:nvPicPr>
        <p:blipFill>
          <a:blip r:embed="rId1"/>
          <a:stretch/>
        </p:blipFill>
        <p:spPr>
          <a:xfrm>
            <a:off x="5715000" y="3435480"/>
            <a:ext cx="2138400" cy="2782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45" name="Picture 2" descr=""/>
          <p:cNvPicPr/>
          <p:nvPr/>
        </p:nvPicPr>
        <p:blipFill>
          <a:blip r:embed="rId2"/>
          <a:stretch/>
        </p:blipFill>
        <p:spPr>
          <a:xfrm>
            <a:off x="6168960" y="3575160"/>
            <a:ext cx="2136960" cy="2782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46" name="Picture 3" descr=""/>
          <p:cNvPicPr/>
          <p:nvPr/>
        </p:nvPicPr>
        <p:blipFill>
          <a:blip r:embed="rId3"/>
          <a:stretch/>
        </p:blipFill>
        <p:spPr>
          <a:xfrm>
            <a:off x="6832440" y="3673440"/>
            <a:ext cx="2059200" cy="27050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redit Trading Registry Now Operational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8" name="Picture 2" descr="cid:image001.png@01CCDF74.239DB440"/>
          <p:cNvPicPr/>
          <p:nvPr/>
        </p:nvPicPr>
        <p:blipFill>
          <a:blip r:embed="rId1"/>
          <a:stretch/>
        </p:blipFill>
        <p:spPr>
          <a:xfrm>
            <a:off x="1035000" y="1600200"/>
            <a:ext cx="7074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Purchase 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0" name="Picture 2" descr="cid:email-header"/>
          <p:cNvPicPr/>
          <p:nvPr/>
        </p:nvPicPr>
        <p:blipFill>
          <a:blip r:embed="rId1"/>
          <a:stretch/>
        </p:blipFill>
        <p:spPr>
          <a:xfrm>
            <a:off x="324000" y="1406520"/>
            <a:ext cx="5048280" cy="85716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1" descr="cid:email-template-banner"/>
          <p:cNvPicPr/>
          <p:nvPr/>
        </p:nvPicPr>
        <p:blipFill>
          <a:blip r:embed="rId2"/>
          <a:stretch/>
        </p:blipFill>
        <p:spPr>
          <a:xfrm>
            <a:off x="266760" y="2378160"/>
            <a:ext cx="5048280" cy="885600"/>
          </a:xfrm>
          <a:prstGeom prst="rect">
            <a:avLst/>
          </a:prstGeom>
          <a:ln w="0">
            <a:noFill/>
          </a:ln>
        </p:spPr>
      </p:pic>
      <p:sp>
        <p:nvSpPr>
          <p:cNvPr id="552" name="TextBox 7"/>
          <p:cNvSpPr/>
          <p:nvPr/>
        </p:nvSpPr>
        <p:spPr>
          <a:xfrm>
            <a:off x="266760" y="3559320"/>
            <a:ext cx="738648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fer Details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rget Account Name: DEMO ORB SWCD ACCOUN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fer Date: 2013-09-16 00:00:0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ents: Transaction of Stewardship credi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 Vintage Year: 2014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 Quantity: 20.00000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 Credit Type: TN lbs/yea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 Watershed (HUC4): Scioto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 Sub Watershed (HUC10): Headwaters Scioto Riv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st Management Practice : Cover Crops &amp; Buffer Strip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cillary Benefits : Carbon Sequestration, Pollinator Habit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nip Single Corner Rectangle 9"/>
          <p:cNvSpPr/>
          <p:nvPr/>
        </p:nvSpPr>
        <p:spPr>
          <a:xfrm>
            <a:off x="196920" y="1111320"/>
            <a:ext cx="5838840" cy="5402160"/>
          </a:xfrm>
          <a:custGeom>
            <a:avLst/>
            <a:gdLst>
              <a:gd name="textAreaLeft" fmla="*/ 0 w 5838840"/>
              <a:gd name="textAreaRight" fmla="*/ 5388840 w 5838840"/>
              <a:gd name="textAreaTop" fmla="*/ 450000 h 5402160"/>
              <a:gd name="textAreaBottom" fmla="*/ 5402520 h 5402160"/>
            </a:gdLst>
            <a:ahLst/>
            <a:rect l="textAreaLeft" t="textAreaTop" r="textAreaRight" b="textAreaBottom"/>
            <a:pathLst>
              <a:path w="5838092" h="5401994">
                <a:moveTo>
                  <a:pt x="0" y="0"/>
                </a:moveTo>
                <a:lnTo>
                  <a:pt x="4937742" y="0"/>
                </a:lnTo>
                <a:lnTo>
                  <a:pt x="5838092" y="900350"/>
                </a:lnTo>
                <a:lnTo>
                  <a:pt x="5838092" y="5401994"/>
                </a:lnTo>
                <a:lnTo>
                  <a:pt x="0" y="5401994"/>
                </a:lnTo>
                <a:close/>
              </a:path>
            </a:pathLst>
          </a:custGeom>
          <a:noFill/>
          <a:ln w="2232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buy pilot credit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elop comfor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blic recognition for leadersh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exible NPDES compliance sched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sion in Corporate Sustainability Repo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plication, and agency preference, towards Supplemental Environmental Project (SEP) obligat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side Inter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ional Association of Regulatory Utility Commissioners – Resolution ORB WQ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pper Mississippi River Basin Author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ssissippi River Cities Initia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uisiana Department of Environmental Qu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ding Plan amended in October 20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ification of credits by end of 20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dits will be sold in early 20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ect a press release in March 20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RB WQT Stakeholder Engag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3123720" y="1600200"/>
            <a:ext cx="5715000" cy="38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 Box 5"/>
          <p:cNvSpPr/>
          <p:nvPr/>
        </p:nvSpPr>
        <p:spPr>
          <a:xfrm>
            <a:off x="185760" y="947880"/>
            <a:ext cx="9586800" cy="63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9240" indent="-2192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llaborat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lectric Power Research Instit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merican Farmland Tr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hio Farm Bureau Fed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SAN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nnessee Valley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merican Electric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oosier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uke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e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outman San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ieser &amp; Associa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C Santa Barb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5"/>
          <p:cNvSpPr/>
          <p:nvPr/>
        </p:nvSpPr>
        <p:spPr>
          <a:xfrm>
            <a:off x="4208400" y="1003320"/>
            <a:ext cx="4811760" cy="9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9240" indent="-2192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genci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SE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S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a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h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i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ntuc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ering Committe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11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11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ri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11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Pl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11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vironmental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11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11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5"/>
          <p:cNvSpPr/>
          <p:nvPr/>
        </p:nvSpPr>
        <p:spPr>
          <a:xfrm>
            <a:off x="5443560" y="3232080"/>
            <a:ext cx="342576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9240" indent="-2192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4" descr=""/>
          <p:cNvPicPr/>
          <p:nvPr/>
        </p:nvPicPr>
        <p:blipFill>
          <a:blip r:embed="rId1"/>
          <a:srcRect l="0" t="1352" r="0" b="0"/>
          <a:stretch/>
        </p:blipFill>
        <p:spPr>
          <a:xfrm>
            <a:off x="6029280" y="1571760"/>
            <a:ext cx="2819520" cy="15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eering Committees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 Agricult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365040" y="1447920"/>
            <a:ext cx="8413920" cy="46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diana State Department of Agriculture;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Kentucky Division of Conservation;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hio Department of Natural Resources;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USDA, ARS; USDA NRCS;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Kentucky, Ohio, and Indiana Farm Bureaus;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llinois and Indiana State Conservationists;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ational Pork Producers;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est Virginia Conservation Agency;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Kentucky Corn Growers Associ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C Department of Agriculture and Consumer Services;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and Stewards, LLC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ering Committe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312480" y="1176480"/>
            <a:ext cx="841356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WWT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– National Association of Clean Water Agencies (NACWA) host EPRI via their WQT working group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ower Companies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– Duke, AEP, TVA, Hoosier, Exel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Environmental Group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ature Conservancy OH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rra Club OH &amp; 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 Environmental Counci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vironmental Law and Policy 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N Center for Env’t Advoca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Y Waterways Alli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ntucky Resources Counc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vironmental Defense F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ilot Trading Plan Amend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tewardship Credit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ligibility for inducements for early involvement in trading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Use of credits for SE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arm specific variables rather than default values for modeling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Use of ODNR Load Reduction Spreadsheet to determine reductions from improved milkhouse waste handling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mendments will be signed all the signatories of the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Pilot Trading Plan 1.0 for the Ohio River Basin Interstate Water Quality Trading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7" descr="Pilot Credit Process_2012-07.jpg"/>
          <p:cNvPicPr/>
          <p:nvPr/>
        </p:nvPicPr>
        <p:blipFill>
          <a:blip r:embed="rId1"/>
          <a:stretch/>
        </p:blipFill>
        <p:spPr>
          <a:xfrm>
            <a:off x="0" y="709560"/>
            <a:ext cx="89089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ract Fl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8" name="Diagram 4" descr=""/>
          <p:cNvPicPr/>
          <p:nvPr/>
        </p:nvPicPr>
        <p:blipFill>
          <a:blip r:embed="rId1"/>
          <a:stretch/>
        </p:blipFill>
        <p:spPr>
          <a:xfrm>
            <a:off x="652320" y="1212840"/>
            <a:ext cx="6986880" cy="4267080"/>
          </a:xfrm>
          <a:prstGeom prst="rect">
            <a:avLst/>
          </a:prstGeom>
          <a:ln w="0">
            <a:noFill/>
          </a:ln>
        </p:spPr>
      </p:pic>
      <p:sp>
        <p:nvSpPr>
          <p:cNvPr id="519" name="Rounded Rectangle 5"/>
          <p:cNvSpPr/>
          <p:nvPr/>
        </p:nvSpPr>
        <p:spPr>
          <a:xfrm>
            <a:off x="1163520" y="5556240"/>
            <a:ext cx="7210440" cy="8715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6"/>
          <p:cNvSpPr/>
          <p:nvPr/>
        </p:nvSpPr>
        <p:spPr>
          <a:xfrm>
            <a:off x="1162080" y="5823000"/>
            <a:ext cx="798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 Credits “Certified” by State Permitting Author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aluation Criteria for Cost-sh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65040" y="1447560"/>
            <a:ext cx="8413920" cy="49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mary Conside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st per pound for a 5 year credi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itional Conside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range of practices to gain max knowled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WCD and state priority concerns are addr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cillary benefits addressed (habitat, rare species, air quality, social, Highly Erodible Lands, Ag viabilit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treach potent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1" descr=""/>
          <p:cNvPicPr/>
          <p:nvPr/>
        </p:nvPicPr>
        <p:blipFill>
          <a:blip r:embed="rId1"/>
          <a:stretch/>
        </p:blipFill>
        <p:spPr>
          <a:xfrm>
            <a:off x="950760" y="1349280"/>
            <a:ext cx="6799320" cy="5254560"/>
          </a:xfrm>
          <a:prstGeom prst="rect">
            <a:avLst/>
          </a:prstGeom>
          <a:ln w="0">
            <a:noFill/>
          </a:ln>
        </p:spPr>
      </p:pic>
      <p:sp>
        <p:nvSpPr>
          <p:cNvPr id="524" name="Rectangle 4"/>
          <p:cNvSpPr/>
          <p:nvPr/>
        </p:nvSpPr>
        <p:spPr>
          <a:xfrm>
            <a:off x="5877000" y="2373480"/>
            <a:ext cx="685800" cy="1295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5" name="Straight Arrow Connector 6"/>
          <p:cNvCxnSpPr>
            <a:stCxn id="524" idx="3"/>
          </p:cNvCxnSpPr>
          <p:nvPr/>
        </p:nvCxnSpPr>
        <p:spPr>
          <a:xfrm flipV="1">
            <a:off x="6562800" y="2873160"/>
            <a:ext cx="1157400" cy="148320"/>
          </a:xfrm>
          <a:prstGeom prst="straightConnector1">
            <a:avLst/>
          </a:prstGeom>
          <a:ln w="25560">
            <a:solidFill>
              <a:srgbClr val="4a7ebb"/>
            </a:solidFill>
            <a:miter/>
            <a:headEnd len="med" type="triangle" w="med"/>
          </a:ln>
        </p:spPr>
      </p:cxnSp>
      <p:sp>
        <p:nvSpPr>
          <p:cNvPr id="526" name="TextBox 7"/>
          <p:cNvSpPr/>
          <p:nvPr/>
        </p:nvSpPr>
        <p:spPr>
          <a:xfrm>
            <a:off x="7898760" y="2644920"/>
            <a:ext cx="121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Oh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13"/>
          <p:cNvSpPr/>
          <p:nvPr/>
        </p:nvSpPr>
        <p:spPr>
          <a:xfrm>
            <a:off x="41760" y="5611680"/>
            <a:ext cx="12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ddle Oh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14"/>
          <p:cNvSpPr/>
          <p:nvPr/>
        </p:nvSpPr>
        <p:spPr>
          <a:xfrm>
            <a:off x="1279440" y="3911760"/>
            <a:ext cx="1803600" cy="1434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9" name="Straight Arrow Connector 15"/>
          <p:cNvCxnSpPr/>
          <p:nvPr/>
        </p:nvCxnSpPr>
        <p:spPr>
          <a:xfrm flipH="1">
            <a:off x="804240" y="5028840"/>
            <a:ext cx="410040" cy="570600"/>
          </a:xfrm>
          <a:prstGeom prst="straightConnector1">
            <a:avLst/>
          </a:prstGeom>
          <a:ln w="25560">
            <a:solidFill>
              <a:srgbClr val="4a7ebb"/>
            </a:solidFill>
            <a:miter/>
            <a:headEnd len="med" type="triangle" w="med"/>
          </a:ln>
        </p:spPr>
      </p:cxn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06440" y="176040"/>
            <a:ext cx="8229600" cy="8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ilot Trade Lo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TextBox 23"/>
          <p:cNvSpPr/>
          <p:nvPr/>
        </p:nvSpPr>
        <p:spPr>
          <a:xfrm>
            <a:off x="5996160" y="0"/>
            <a:ext cx="3147840" cy="318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ilot Trades (2013-20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-30 farmer contrac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6,000 lbs N/y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,000 lb P/y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cus on KY, IN, 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17:07:40Z</dcterms:created>
  <dc:creator>ED</dc:creator>
  <dc:description>Copyright 2013</dc:description>
  <dc:language>en-US</dc:language>
  <cp:lastModifiedBy>jklear</cp:lastModifiedBy>
  <cp:lastPrinted>2005-05-03T23:36:11Z</cp:lastPrinted>
  <dcterms:modified xsi:type="dcterms:W3CDTF">2013-10-15T15:24:44Z</dcterms:modified>
  <cp:revision>15</cp:revision>
  <dc:subject>Version 1</dc:subject>
  <dc:title>2013 PowerPoint Template Version 1</dc:title>
</cp:coreProperties>
</file>